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FF0-8BE7-4A8C-8914-FFA7DF4A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44A-7370-4698-BCE6-613BE1A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E8A-9BD9-45B5-B68F-705649B1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C43-35E6-4632-83AD-F3FC6EDD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3E0-289F-4E89-BD93-52522298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30A-F5DF-45D6-876D-51BBAE2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E152-C3F0-4E5B-B12B-DB25398D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4D2E-4139-4CE0-B9F4-2576E765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E8EA-2279-4473-9830-8842ACD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CC23-488A-4990-B8D5-978D774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F4C-30CA-4702-83D6-87CBD44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77D-749F-4EEC-9130-E3B8C37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3924-C25B-4F13-B402-08C459A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FD2-AACA-4EC8-A990-6ED80CB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69AA-69B2-4C66-80C6-EA664554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95D-D46F-44B5-9471-BE4F2D9F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8090-4B14-4475-A923-1E8B97D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EDB-F120-4C27-857D-5DFB16BB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7D0-D198-422E-836B-7143A022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D24-89A7-4308-A2B9-A775C42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01C-6DBA-4F3B-AC1C-134FA2F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45E-3696-43BF-A886-9394C06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174-8965-4D24-8834-95411D3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008-A5CD-417C-8924-D0A7FA1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7EF-5225-4DEC-91AA-30C59B74C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A011-BEE7-4815-A968-B0B734985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heritance Anomal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of concurrent objects and inheri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paper: [Matsuoka93] Analysis of Inheritance Anomalies in OOP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ding a base class (…)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related to concurrency control cannot be effectively inher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/or refined in a subclas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out non-trivial redefin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ethods implementation.” [C. Lopes PhD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D0E-6363-4643-BA91-81E135AB9C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s f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J Visitor to solve the Mous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pecific pointcuts =&gt; simpler adv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pointcuts =&gt; more elaborated adv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aspects =&gt;higher degree of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 many abstraction levels make code difficult to fo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classes =&gt; incremental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C13-0F8B-418A-8261-00D4B8DE81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s are very dependent on the parser for the simulation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OP design has hardly been used instead of OOP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DEE-BFD5-4626-BCD3-08B39F516A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best solu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from scrat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OP design and open cla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bstract aspects for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ine grained definition of pointc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F7E-41C8-4362-815E-48948EDE30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1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nstra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certain state an object can accept only certain methods to maintain its internal integ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ed-Buffer ob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(): if buffer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(): if buffer not fu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89E-DF99-45E8-A47E-93F2F6594F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ion of code where the synchronization behavior is control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always be consistent with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constra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9D6-DE0D-4556-99C0-A5DF7A4E31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hen are Inheritance Anomalies fou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tion of acceptable states (Get2(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-only sensitiveness of acceptable states (Gget(), DoubleClick()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 of acceptable states. (Lo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DD2-3B87-471F-BA1D-379F522E1B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es AOP help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30542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25970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0880" y="39686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880" y="44258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32828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0880" y="28256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0880" y="47307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0880" y="35114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0880" y="41972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0880" y="51879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0880" y="61023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54165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7720" y="182880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0880" y="58737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0880" y="56451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0880" y="49593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37400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876920" y="2438280"/>
            <a:ext cx="2273040" cy="3797280"/>
            <a:chOff x="4876920" y="2438280"/>
            <a:chExt cx="2273040" cy="3797280"/>
          </a:xfrm>
        </p:grpSpPr>
        <p:sp>
          <p:nvSpPr>
            <p:cNvPr id="115" name=""/>
            <p:cNvSpPr/>
            <p:nvPr/>
          </p:nvSpPr>
          <p:spPr>
            <a:xfrm>
              <a:off x="4876920" y="2438280"/>
              <a:ext cx="2273040" cy="11304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e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733920"/>
              <a:ext cx="2273040" cy="11300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ynchroniz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havi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5029200"/>
              <a:ext cx="2273040" cy="120636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ther concern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lated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23920" y="167652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678-486F-49F0-BC93-0D87644855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757520" y="1447560"/>
            <a:ext cx="6319440" cy="4708080"/>
            <a:chOff x="1757520" y="1447560"/>
            <a:chExt cx="6319440" cy="4708080"/>
          </a:xfrm>
        </p:grpSpPr>
        <p:sp>
          <p:nvSpPr>
            <p:cNvPr id="120" name=""/>
            <p:cNvSpPr/>
            <p:nvPr/>
          </p:nvSpPr>
          <p:spPr>
            <a:xfrm>
              <a:off x="3581280" y="1981080"/>
              <a:ext cx="1120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8080" y="3124080"/>
              <a:ext cx="1654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W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752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2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3424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3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114800"/>
              <a:ext cx="106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Whe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343400" y="2437920"/>
              <a:ext cx="121896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504600" y="3581280"/>
              <a:ext cx="38124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361960" y="3581280"/>
              <a:ext cx="4572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7600" y="2437920"/>
              <a:ext cx="3808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3760" y="1447920"/>
              <a:ext cx="1676520" cy="16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Righ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Press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Relea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24280" y="1447560"/>
              <a:ext cx="609480" cy="533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4280" y="2438280"/>
              <a:ext cx="609480" cy="6098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7760" y="4952880"/>
              <a:ext cx="198144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Up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Dow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5181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Middle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47400" y="4572000"/>
              <a:ext cx="30492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360" y="4572000"/>
              <a:ext cx="60984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4572000"/>
              <a:ext cx="106668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160" y="4572000"/>
              <a:ext cx="182880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2880" y="129528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inheritance anomali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21480" y="1447560"/>
            <a:ext cx="6855480" cy="4708080"/>
            <a:chOff x="1221480" y="1447560"/>
            <a:chExt cx="6855480" cy="4708080"/>
          </a:xfrm>
        </p:grpSpPr>
        <p:grpSp>
          <p:nvGrpSpPr>
            <p:cNvPr id="141" name=""/>
            <p:cNvGrpSpPr/>
            <p:nvPr/>
          </p:nvGrpSpPr>
          <p:grpSpPr>
            <a:xfrm>
              <a:off x="1221480" y="1828800"/>
              <a:ext cx="2157480" cy="1295280"/>
              <a:chOff x="1221480" y="1828800"/>
              <a:chExt cx="2157480" cy="1295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21480" y="1828800"/>
                <a:ext cx="2157480" cy="825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istory-onl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lated behavi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81080" y="2286000"/>
                <a:ext cx="685800" cy="8380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757520" y="1447560"/>
              <a:ext cx="6319440" cy="4708080"/>
              <a:chOff x="1757520" y="1447560"/>
              <a:chExt cx="6319440" cy="4708080"/>
            </a:xfrm>
          </p:grpSpPr>
          <p:sp>
            <p:nvSpPr>
              <p:cNvPr id="145" name=""/>
              <p:cNvSpPr/>
              <p:nvPr/>
            </p:nvSpPr>
            <p:spPr>
              <a:xfrm>
                <a:off x="3581280" y="1981080"/>
                <a:ext cx="1120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68080" y="3124080"/>
                <a:ext cx="16545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WD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5752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2680" y="4114800"/>
                <a:ext cx="1066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e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343400" y="2437920"/>
                <a:ext cx="121896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504600" y="3581280"/>
                <a:ext cx="3812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361960" y="358128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657600" y="2437920"/>
                <a:ext cx="38088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33760" y="1447920"/>
                <a:ext cx="1676520" cy="162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gh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Press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Release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724280" y="1447560"/>
                <a:ext cx="6094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4280" y="2438280"/>
                <a:ext cx="609480" cy="609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7760" y="4952880"/>
                <a:ext cx="1981440" cy="120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Up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Down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5181480"/>
                <a:ext cx="19810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047400" y="4572000"/>
                <a:ext cx="30492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19360" y="4572000"/>
                <a:ext cx="6098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4572000"/>
                <a:ext cx="106668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48160" y="4572000"/>
                <a:ext cx="182880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5E1-2885-4971-AF4F-D603310D2E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aspect DoubleClick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prevOp;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get_prevOp() {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revOp;  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ouseWDc.set_prevOp(String op) {prevOp=op;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very specific pointcuts allow us keeping the advice simple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(MouseWDc m): (call(* *(..))) &amp;&amp; (!call(* get*(..))) &amp;&amp; (!call(* set*(..))) &amp;&amp; target(m) &amp;&amp; !within(DoubleClick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TB(TwoButton m): call(* *Click(..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WM(WheelMouse m): (call(* LeftClick(..)) || call(* WheelClick(..)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ouseWDc m): pc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common behavior for doublecl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(m.get_prevOp()!=null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curr_op.indexOf("LeftClick")!=-1) System.out.println("Double LeftClick detected"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else {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(curr_op.indexOf("LeftClick")==-1) &amp;&amp; (curr_op.indexOf("RightClick")==-1) &amp;&amp;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urr_op.indexOf("WheelClick")==-1)) 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581280"/>
            <a:ext cx="152280" cy="2362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79D-3CF6-4BCB-A52D-F6DFD5C1BE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TwoButton m): pcTB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TwoButton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Right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Right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WheelMouse m): pcWM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Wheel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Wheel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Wheel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ff661c"/>
                </a:solidFill>
                <a:latin typeface="Arial"/>
                <a:ea typeface="Times New Roman"/>
              </a:rPr>
              <a:t>// end of asp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58128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82880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BF4-F7BD-4B99-8C92-D388037DC0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dvantages of using AO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de tangling caused by synchronization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inheritance anomalies associated with concurr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level of reus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0D1-8BBA-4890-B87B-821850F3E1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</cp:lastModifiedBy>
  <dcterms:modified xsi:type="dcterms:W3CDTF">2002-03-12T17:53:01Z</dcterms:modified>
  <cp:revision>13</cp:revision>
  <dc:subject/>
  <dc:title>PowerPoint Presentation</dc:title>
</cp:coreProperties>
</file>